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CC95-285E-4142-A8B6-60CE0490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391-E7BA-47DE-A3BB-00B201CD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489A-C971-44F3-8EE5-02005495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1ED-629C-4A80-AB21-1784FF5E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1206-AC3A-455B-98DE-4B7E7763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478E-CB9C-4158-A66E-170568BC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27A3-9857-4394-8330-E046425F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9DCD-DBD6-47A3-B393-D10BA7EC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2F32-198A-44DE-8666-976EBD55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CA06-5509-491E-988D-0B2BF6DE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9088-C2B4-4F98-AB46-E93B3A4A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FB3-DC56-4D4B-BBCF-315E4D29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78F8-8AD2-4429-87F1-81A04619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CDB4-720B-4048-B4EE-6E430D2B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6FE8-7A9F-4848-BB90-DAFA06B5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AEEC-9DFE-4EBD-BB2D-6C78B0DEC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05CA-F04D-49BE-8C8E-73C0E577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7D2F-7B5F-4C36-86EA-FC4006AF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A63B-0071-4360-A583-90CC1EB6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57288-29FC-4BFF-834A-3F4B3930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4F0C-2AB9-4207-B132-03795975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1F6B-F3F0-4C3F-927B-504EFB8D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2B0-80B0-4A53-88F6-8087B45F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237D-6AD2-4FEE-A2A2-CA2437BF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CF9C7-83E5-48C5-80AA-C59F4E73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0186-6136-49A5-99A6-8661C61C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7140-132B-4C7A-BC39-65C9F775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1BF82-8CA1-4BB4-BD50-44D0A930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CD33-6610-4115-974D-6597F94B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77B6-31D2-4B16-A603-23977FEE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78112-58B5-4F27-A022-C9EFB0A3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064F6-69C1-41E3-84FB-80828C04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37FEF-547E-41BC-B479-3086F4CF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021-B6AC-45EF-9E13-E0294375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1EB9-7664-4313-8A7A-6EB5C01A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B6ADD-44F1-4CE9-8FEE-98B8F9BF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7610-CBEB-455A-8564-C0287B87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3D1DE-A779-4185-9FF5-3A6A7E7A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54A2C-CA30-46EF-BC32-57225EAC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3BEBD-5694-4349-9CDC-9A3C1B9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8A38A-3668-41F9-B3CA-7BAA6AC5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D0857-2B26-4D20-A09F-3D96E8FB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A5F4F-5208-4E6E-B430-5935135D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FF0C0-75BE-4A3E-B6C0-15A19AD4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447-776D-4F7B-AD39-7418BBCF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8ECC-7B05-4EB9-890B-646F4BD7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79296-7A6C-4EA2-8A85-F9257968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E8CBA-6CA5-4687-979A-569FEA83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051C-718E-4ED0-B064-A56C70EE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6A4F-8FA2-4413-A9C1-F15DB7F0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A5809-3DBC-4074-806F-4EC0498B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768C3-24FD-4E7C-9EF7-750DB83C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E5721-2AD2-4360-AE98-296FA2A1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C1EB3-8AE7-4AB7-8E2F-A350B0EB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7EDB8-6212-446C-9ED2-949DFED4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AA83-E89A-46C5-A22C-4A05DA25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9AE3F-EEBC-4FA5-B47A-5329A625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FE556-EEF8-472F-9D7C-378E1E65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56ABB-9C71-49AF-90C9-51896D11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B5A91-ECB6-4448-9CA1-88C8238E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7F051-2CB4-4E5A-B2EF-580CE853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ECB5F-9860-4916-9FD8-3E1AD869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F79B8-F98A-44F7-906C-505C55B6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ABC18-5C11-41DF-B65C-0050B318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6F87-70E6-4ECF-9088-10BA5640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C83C3-8A78-4D2E-B8AE-A70ABDB1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2BA-B9D2-4E62-BF79-48E2F89B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F8C2A-6B7E-4326-8DE9-63491D1A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2EBD9-E50D-4B7A-946E-13C7E63B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882F7-14B1-4AFB-B665-6D8A5ED8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03701-AAE9-4B9C-91EC-BB93A01B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D42BE-BF34-4C64-A47F-CA86A40F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3B2E8-4E9D-47AA-9BCC-A46A61C6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53090-FB05-4028-98DF-9ED95D10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E236-C9C2-4C95-A94E-88A89E92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70C9E-B85F-49CB-BD97-6BF9F680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9FD80-5D21-4723-9ECD-59FD83D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B218-E878-41A1-B216-687C97DA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6C38F-B6CD-410F-8EEC-75C60C7B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1911E-098E-462D-8AE0-E0CC1DF0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D7C62-27BE-48A2-B3BC-0B4964C4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790BE-FAA5-454C-ABBD-AA0940C3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46E83-CFE7-4A54-B33E-E88C58F0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E3C4-15C8-4EE8-B48D-F66DB746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3FF5-C220-4A06-A502-7F49C6E683F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7E52-3319-43AF-881C-CCD508B20D5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D89E-7D55-44F1-955F-D1354D6BEBE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8FF5-E3E8-4F7D-AC25-B40092CC0DB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2511-51BE-431C-87C2-179A1F27EF9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49D1-CF3A-4F68-AEE6-3E5DD770ADD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E326-F4C9-4846-919E-C4DC7141593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40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Candara"/>
              </a:rPr>
              <a:t>Модуль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Candara"/>
              </a:rPr>
              <a:t>«Формирование оценочных умений при анализе деятельности исторической личности»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Авторы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Боталова А.А.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Радостева Л.А.,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Селукова Л.Д.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Candara"/>
              </a:rPr>
              <a:t>Утробина Т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ndara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1116000" y="1700280"/>
            <a:ext cx="53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Предметные результаты обучения – это освоенный обучающимися в ходе изучения учебного предмета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опыт специфической для данного предмета деятельности по получению нового знания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9" name="Стрелка вправо 4"/>
          <p:cNvSpPr/>
          <p:nvPr/>
        </p:nvSpPr>
        <p:spPr>
          <a:xfrm>
            <a:off x="3016080" y="31669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0" name="TextBox 5"/>
          <p:cNvSpPr/>
          <p:nvPr/>
        </p:nvSpPr>
        <p:spPr>
          <a:xfrm>
            <a:off x="4932360" y="3186000"/>
            <a:ext cx="352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В новом стандарте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оцениваются не только знания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, но и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деятельность обучающихся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по формированию определённых умений и навыков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ndara"/>
              </a:rPr>
              <a:t>Преемствен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4932360" y="3525840"/>
            <a:ext cx="4103640" cy="30132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380880" y="1800360"/>
            <a:ext cx="4392720" cy="2787480"/>
          </a:xfrm>
          <a:prstGeom prst="rect">
            <a:avLst/>
          </a:prstGeom>
          <a:ln w="0">
            <a:noFill/>
          </a:ln>
        </p:spPr>
      </p:pic>
      <p:sp>
        <p:nvSpPr>
          <p:cNvPr id="345" name="TextBox 3"/>
          <p:cNvSpPr/>
          <p:nvPr/>
        </p:nvSpPr>
        <p:spPr>
          <a:xfrm>
            <a:off x="3632040" y="2924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2590920" y="36576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1373400" y="4149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ndara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350" name="TextBox 5"/>
          <p:cNvSpPr/>
          <p:nvPr/>
        </p:nvSpPr>
        <p:spPr>
          <a:xfrm>
            <a:off x="900000" y="1916280"/>
            <a:ext cx="7417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редметные результаты  проверяются в тестах ЕГЭ и ГИА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1" name="Стрелка вправо 7"/>
          <p:cNvSpPr/>
          <p:nvPr/>
        </p:nvSpPr>
        <p:spPr>
          <a:xfrm rot="5400000">
            <a:off x="3911760" y="32155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900000" y="371628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знания                                         умения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755640" y="1412640"/>
            <a:ext cx="740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Суждение – это…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это мысль, высказываемая в повествовательном предложении, являющаяся ложью или истино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иды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уждений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фактически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еоретическ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Оценочны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ndara"/>
              </a:rPr>
              <a:t>Немного из теор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903240" y="4502160"/>
            <a:ext cx="516744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ndara"/>
              </a:rPr>
              <a:t>«Оценка деятельности исторической личности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ndara"/>
              </a:rPr>
              <a:t> на основе учебного текста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Этапы реализации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писание деятельности исторической лич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Характеристика исторической лич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ценка деятельности исторической лич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еобходимые ресурсы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: комплект дидактических материал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7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Ожидаемый  результат </a:t>
            </a:r>
            <a:r>
              <a:rPr b="0" lang="ru-RU" sz="2400" spc="-1" strike="noStrike">
                <a:solidFill>
                  <a:srgbClr val="002060"/>
                </a:solidFill>
                <a:latin typeface="Candara"/>
              </a:rPr>
              <a:t>работы – умение обучающихся составлять оценочное суждение (письменное или устное) об историческом деятеле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1125000"/>
            <a:ext cx="7408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ерспективы развития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: наращивание предметного результата в 8-9 классах путём усложнения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предлагать неадаптированные текс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подбирать тексты с 3-мя и более мнениями об исторической личност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сравнивание мнений и формирование собственного сужд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подбор нескольких аргументов к высказываемому суждению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9T16:19:17Z</dcterms:created>
  <dc:creator>Admin</dc:creator>
  <dc:description/>
  <dc:language>en-US</dc:language>
  <cp:lastModifiedBy>Аверина Светлана Сергеевна</cp:lastModifiedBy>
  <dcterms:modified xsi:type="dcterms:W3CDTF">2016-12-28T10:11:37Z</dcterms:modified>
  <cp:revision>8</cp:revision>
  <dc:subject/>
  <dc:title>Модуль  «Формирование оценочных умений при анализе деятельности исторической личности»</dc:title>
</cp:coreProperties>
</file>